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89C1-25B5-4148-ADEB-19C0DEA264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3A9E-2689-49CE-A908-A4960201DB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F62B-CCEC-49DE-A9C4-54133E9D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B71E-9707-42C4-BDC2-09578B82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D868-5B29-4089-821B-392F4399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13F6-EB8A-4CE6-B4CE-59AB1CF9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15E0-A46D-466A-B8FD-7BCBD0C1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C79D-9AD4-4E1C-97D5-E2DECA3C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653D-6502-470E-B196-768212CD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259D-8892-4818-BC2F-55C9DD0F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0F2B-10E6-45D7-B4D5-03E70529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C592-07F4-4FF3-A43F-91D2A475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052C-3754-4812-9D3C-66595F70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3DD2-831B-4F04-B641-A1A277D8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5CE1-E56D-4B5F-B097-4C0F4BFE48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28600" y="609480"/>
            <a:ext cx="86104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Использован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инновационн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технологи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на уроках английско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язы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343400" y="3537000"/>
            <a:ext cx="4191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Этап завершения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На данном этап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ыполняется демонстрация полученных результат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ащита про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атем провод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рефлек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" descr=""/>
          <p:cNvPicPr/>
          <p:nvPr/>
        </p:nvPicPr>
        <p:blipFill>
          <a:blip r:embed="rId1"/>
          <a:stretch/>
        </p:blipFill>
        <p:spPr>
          <a:xfrm>
            <a:off x="6607080" y="3452760"/>
            <a:ext cx="1104840" cy="17208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"/>
          <p:cNvPicPr/>
          <p:nvPr/>
        </p:nvPicPr>
        <p:blipFill>
          <a:blip r:embed="rId2"/>
          <a:stretch/>
        </p:blipFill>
        <p:spPr>
          <a:xfrm>
            <a:off x="7170840" y="1273320"/>
            <a:ext cx="1447560" cy="20872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"/>
          <p:cNvPicPr/>
          <p:nvPr/>
        </p:nvPicPr>
        <p:blipFill>
          <a:blip r:embed="rId3"/>
          <a:stretch/>
        </p:blipFill>
        <p:spPr>
          <a:xfrm>
            <a:off x="7678800" y="4495680"/>
            <a:ext cx="1305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Scrum - 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техн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манд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ммун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е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итическое мыш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Личный достижения ав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ие в онлайн тестирование по теме «Применение методики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rum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уроках», диплом 1 степ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тупление об использование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ru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технологии на уроках английского языка в рамках сеанса В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спубликанский заочный конкурс педагогического мастерства РостОК , организованный ГАОУ «РОЦ», г.Казань, диплом победителя 2 степ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спубликанского конкурса «Современные подходы к организации воспитательно - образовательного процесса в соответствии с ФГОС», г. Наб.Челны, диплом 3 степ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ональные педагогические чтения, г. Чистополь, диплом побед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Актуа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crum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технология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хнология для реализ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ектной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3300"/>
                </a:solidFill>
                <a:uFillTx/>
                <a:latin typeface="Arial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здание команды со своими идеями, огромным опытом и безграничной энергией, идущей в ногу со временем, стремящейся к достижению лучших результатов.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457200" y="304920"/>
            <a:ext cx="84582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ать учащимся возможность научиться учитьс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высить мотивацию к позна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Практическая значимость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ика проведения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crum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урока поможет в проведении проектных уроков/занятий по английскому язы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68160" y="304920"/>
            <a:ext cx="84582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Методик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провед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5400" spc="-1" strike="noStrike">
                <a:solidFill>
                  <a:srgbClr val="ff3300"/>
                </a:solidFill>
                <a:latin typeface="Arial"/>
              </a:rPr>
              <a:t>Scrum-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у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одготовительный 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Black"/>
              </a:rPr>
              <a:t>«Маршрутный лис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Цель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мысловые еди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ребования к конечному продук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роки и формы приема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7734240" y="1779480"/>
            <a:ext cx="1104840" cy="17226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"/>
          <p:cNvPicPr/>
          <p:nvPr/>
        </p:nvPicPr>
        <p:blipFill>
          <a:blip r:embed="rId2"/>
          <a:stretch/>
        </p:blipFill>
        <p:spPr>
          <a:xfrm>
            <a:off x="6324480" y="1414440"/>
            <a:ext cx="1447920" cy="2087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"/>
          <p:cNvPicPr/>
          <p:nvPr/>
        </p:nvPicPr>
        <p:blipFill>
          <a:blip r:embed="rId3"/>
          <a:stretch/>
        </p:blipFill>
        <p:spPr>
          <a:xfrm>
            <a:off x="7381800" y="3352680"/>
            <a:ext cx="1305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Этап план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рганизация учащихся                    в проектные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ыбор </a:t>
            </a: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Scrum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ас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накомство с «маршрутным лист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пределение задач (реализации) спри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формление </a:t>
            </a: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Scrum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- до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7734240" y="1779480"/>
            <a:ext cx="1104840" cy="17226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"/>
          <p:cNvPicPr/>
          <p:nvPr/>
        </p:nvPicPr>
        <p:blipFill>
          <a:blip r:embed="rId2"/>
          <a:stretch/>
        </p:blipFill>
        <p:spPr>
          <a:xfrm>
            <a:off x="6586560" y="611280"/>
            <a:ext cx="1447920" cy="20876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"/>
          <p:cNvPicPr/>
          <p:nvPr/>
        </p:nvPicPr>
        <p:blipFill>
          <a:blip r:embed="rId3"/>
          <a:stretch/>
        </p:blipFill>
        <p:spPr>
          <a:xfrm>
            <a:off x="7458120" y="3753000"/>
            <a:ext cx="1305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Этап реал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Учащиеся, рабо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 командах, выполняют различные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адача счит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ыполненной, ес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се члены команды е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свои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7491240" y="1828800"/>
            <a:ext cx="1105200" cy="17226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"/>
          <p:cNvPicPr/>
          <p:nvPr/>
        </p:nvPicPr>
        <p:blipFill>
          <a:blip r:embed="rId2"/>
          <a:stretch/>
        </p:blipFill>
        <p:spPr>
          <a:xfrm>
            <a:off x="6202440" y="419040"/>
            <a:ext cx="144756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"/>
          <p:cNvPicPr/>
          <p:nvPr/>
        </p:nvPicPr>
        <p:blipFill>
          <a:blip r:embed="rId3"/>
          <a:stretch/>
        </p:blipFill>
        <p:spPr>
          <a:xfrm>
            <a:off x="6997680" y="3287880"/>
            <a:ext cx="1305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3T09:48:58Z</dcterms:created>
  <dc:creator>Администратор</dc:creator>
  <dc:description/>
  <dc:language>en-US</dc:language>
  <cp:lastModifiedBy>Пользователь Windows</cp:lastModifiedBy>
  <dcterms:modified xsi:type="dcterms:W3CDTF">2022-03-29T12:41:25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